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8E06-BA12-4D5C-ACB5-3E566212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A60-1ACD-409E-AFA5-582BF637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779-2B2E-4AE3-B1D9-8DBBDD0E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FF18-7579-40E5-8277-CCC9116C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534-C990-47BC-B6C1-5D029297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6DC0-DA9A-4117-82AC-B2A075FF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E46-74D2-4D9A-BB15-6D152B98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A244-1DC8-416C-A557-3A1AA5F9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2060-2E99-429F-B47C-FA700236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86B-91A7-4528-B413-C2FC7E46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E9E-C613-4C43-B9B9-213EF7C0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3C9A-D276-4937-9627-242AA245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7FC1-50C8-4CDE-B43D-76502BBDD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ving Useful 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Program Files\Microsoft Office\MEDIA\CAGCAT10\j0233018.wmf"/>
          <p:cNvPicPr/>
          <p:nvPr/>
        </p:nvPicPr>
        <p:blipFill>
          <a:blip r:embed="rId1"/>
          <a:stretch/>
        </p:blipFill>
        <p:spPr>
          <a:xfrm>
            <a:off x="3048120" y="3886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back should be about the presentation, not about the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you explained the last step of cell division, I found it difficult to understand the part about…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…I found you hard to understand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fessionalism of your appearance helped me feel that this was important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You looked good up ther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You did a really good job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back should be specific, not gene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paces for me to write my data on the activity page made it easier for me to stay on track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coming in dressed as a clown, you engaged my attention really well, so I paid full attention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I liked your activity pag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The presentation was really fun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back should be tied to known expectations, outcomes, concepts being practic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as exciting to be able to make my ow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bserv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collec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id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myself about the worm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I would have liked a more critical approach to the ethics of using of living things as part of teaching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should provide guidance for improvement, and be based on already-present strengths whenever poss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had some very strong open-ended questions such as…even more of those would have helped me think more deeply about the ideas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“You only had two open-ended questions; you should have more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“It was OK, but something to watch for is that you say ‘um’ a lot, so try to have your ideas in mind before you start talking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feedback takes deliberate and conscientious practice! For most peo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eas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does not come natur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the same as the way we talk to others in casual contex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a “mixed bag” of good and b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only be given to people we already respect, care about and want to sup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que the Crit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You looked nervous. Maybe you should practice more before you pres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is was just an awesome activity—really, just awesome—I mean, like, truly amaz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e simple materials you used could be found anywhere, which reinforced that science is all around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Your equipment was really great. I think using science equipment like that will help kids wonder more about how the equipment is used in real sci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ynta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edback Synta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you…, it helped me to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…in your lesson made me think of…in our class discuss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ponse Synta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you tell me more about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, do I understand that you’re saying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nk you for th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4:39:27Z</dcterms:created>
  <dc:creator>Information Technology</dc:creator>
  <dc:description/>
  <dc:language>en-US</dc:language>
  <cp:lastModifiedBy>Information Technology</cp:lastModifiedBy>
  <dcterms:modified xsi:type="dcterms:W3CDTF">2009-11-24T15:01:30Z</dcterms:modified>
  <cp:revision>3</cp:revision>
  <dc:subject/>
  <dc:title>Giving Useful Feedback</dc:title>
</cp:coreProperties>
</file>